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29E8-FADF-4F25-8FA8-81B840524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831-8E62-4DBC-9A38-B948A98F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9A34-9B5D-43E4-BF82-B83ACF82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389-1DED-413A-A0FE-19980B67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15E-77E1-401C-B99A-C6738202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AAD-069E-4A02-8CF0-64EDF61B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EBC-FAAD-4C11-9A8E-59CB4689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AE5-48B7-41FE-BC88-F746D335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EE5-946B-4457-9601-53EF81B1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BFE-D45C-45DA-A427-25E8DFC9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BAE-AB2A-4523-BA91-63977B19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850-3F74-4884-9ACC-803A9C9F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A2E9-B98F-4761-8086-8DA71889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968C-2D26-4281-9B34-FBA631284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o.utexas.edu/courses/302c/EarthsClimate_Web_Chapter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0" y="533520"/>
            <a:ext cx="9080640" cy="1069200"/>
            <a:chOff x="0" y="533520"/>
            <a:chExt cx="9080640" cy="1069200"/>
          </a:xfrm>
        </p:grpSpPr>
        <p:sp>
          <p:nvSpPr>
            <p:cNvPr id="49" name="Text Box 2"/>
            <p:cNvSpPr/>
            <p:nvPr/>
          </p:nvSpPr>
          <p:spPr>
            <a:xfrm>
              <a:off x="0" y="533520"/>
              <a:ext cx="9080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ecture 3: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diatio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and Earth’s Atmosphe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2133360" y="1143000"/>
              <a:ext cx="4953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Times New Roman"/>
                  <a:hlinkClick r:id="rId1"/>
                </a:rPr>
                <a:t>EarthsClimate_Web_Chapter.pdf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p. 1-5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Text Box 6"/>
          <p:cNvSpPr/>
          <p:nvPr/>
        </p:nvSpPr>
        <p:spPr>
          <a:xfrm>
            <a:off x="152280" y="5943600"/>
            <a:ext cx="8534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’s global average surface temperature in present climate is 15C (59F).  Without the atmosphere, it would be -18C (-0.4F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33C or 59.4F colder!  Atmosphere is the most important component of the earth’s clima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tion vs. other heat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nergy enter the earth’s atmosphere: 174 petawatts or 174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: 99.978%, Geothermal: 0.013%, waste and fossil fuel: 0.007%, tidal: 0.00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52280" y="3048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4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ater vapor accounts for 60% of the atmospheric greenhouse effect, CO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26%, and the remaining greenhouse gases 14%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057400" y="152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house G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429000" y="1143000"/>
            <a:ext cx="23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ater vapor (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98108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rbon dioxide (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57200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hane (C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943600" y="222408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trous oxide (N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990720" y="220968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zone (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048120" y="213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lorofluorocarbons (CFC’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04920" y="8380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What are they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52280" y="42670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ntributes most (55-60%)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opogenic greenhouse effec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nd methane is a distant second (16%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52280" y="5334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FCs cause the strongest greenhouse warming on a molecule-for-molecule basi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1295280" y="1523880"/>
            <a:ext cx="7086600" cy="12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28600" y="228600"/>
            <a:ext cx="403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Absor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1447920"/>
            <a:ext cx="34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asses rather freel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hrough Earth's atmosp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Earth emits longwave energy, which either leaks through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rrow window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sorbe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by greenhouse gases and radiated back to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G:\clones\Meterology\custom lectures\jpegs\chapter 02\11.jpg"/>
          <p:cNvPicPr/>
          <p:nvPr/>
        </p:nvPicPr>
        <p:blipFill>
          <a:blip r:embed="rId1"/>
          <a:stretch/>
        </p:blipFill>
        <p:spPr>
          <a:xfrm>
            <a:off x="4267080" y="76320"/>
            <a:ext cx="4267440" cy="6637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095880" y="6384960"/>
            <a:ext cx="1828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 rot="16200000">
            <a:off x="3111480" y="2940840"/>
            <a:ext cx="225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bsorption (10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7086600" y="1522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itrous 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162920" y="123336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eth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391520" y="23004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7086600" y="321480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ater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4800600" y="4191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5867280" y="541008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5562720" y="5410080"/>
            <a:ext cx="30456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4876920" y="5410080"/>
            <a:ext cx="685800" cy="0"/>
          </a:xfrm>
          <a:prstGeom prst="line">
            <a:avLst/>
          </a:prstGeom>
          <a:ln w="28440">
            <a:solidFill>
              <a:srgbClr val="cc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10552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tal At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7086600" y="533412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5029200" y="505944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3200400" y="2133720"/>
            <a:ext cx="2362320" cy="4114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3048120" y="3809880"/>
            <a:ext cx="441936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2438280" y="5029200"/>
            <a:ext cx="5562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2743200" y="5105520"/>
            <a:ext cx="39625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olar Intensity and La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3" descr="G:\clones\Meterology\custom lectures\jpegs\chapter 03\02.jpg"/>
          <p:cNvPicPr/>
          <p:nvPr/>
        </p:nvPicPr>
        <p:blipFill>
          <a:blip r:embed="rId1"/>
          <a:stretch/>
        </p:blipFill>
        <p:spPr>
          <a:xfrm>
            <a:off x="415800" y="325440"/>
            <a:ext cx="8248680" cy="39495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1160" y="4448160"/>
            <a:ext cx="905976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intensity, defined a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ergy per area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is different at different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sunlight beam th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ikes at an ang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ea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across a greater surface area, and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ss intens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heat source than a beam impinging direc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Radiation on a 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figure 02-04"/>
          <p:cNvPicPr/>
          <p:nvPr/>
        </p:nvPicPr>
        <p:blipFill>
          <a:blip r:embed="rId1"/>
          <a:stretch/>
        </p:blipFill>
        <p:spPr>
          <a:xfrm>
            <a:off x="380880" y="762120"/>
            <a:ext cx="5346720" cy="60958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6248520" y="1752480"/>
            <a:ext cx="24382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solation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onger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opics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(low latitudes) than in in the polar regions (high latitud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Pole-to-Equator Heating Imbal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3" descr="figure 02-05"/>
          <p:cNvPicPr/>
          <p:nvPr/>
        </p:nvPicPr>
        <p:blipFill>
          <a:blip r:embed="rId1"/>
          <a:stretch/>
        </p:blipFill>
        <p:spPr>
          <a:xfrm>
            <a:off x="1676520" y="1066680"/>
            <a:ext cx="5608440" cy="50292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igure 02-07a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456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63360" y="2286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What controls the elevation of the Sun above the horiz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0" y="61722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Tilt Primarily Determines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's Annual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533520"/>
            <a:ext cx="234972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achieved locally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ly two line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f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global 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maintained by exces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heat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from the equatorial region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ransferring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oward the p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4" descr="G:\clones\Meterology\custom lectures\jpegs\chapter 03\08.jpg"/>
          <p:cNvPicPr/>
          <p:nvPr/>
        </p:nvPicPr>
        <p:blipFill>
          <a:blip r:embed="rId1"/>
          <a:stretch/>
        </p:blipFill>
        <p:spPr>
          <a:xfrm>
            <a:off x="2654280" y="912960"/>
            <a:ext cx="6464160" cy="47955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525780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ing Solar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724280" y="2635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utgoing Longwave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895480" y="6095880"/>
            <a:ext cx="61088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heating of tropics and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90520" y="0"/>
            <a:ext cx="84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e Global Energy Budget:  Driver of Atmospheric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3" descr="earthrad"/>
          <p:cNvPicPr/>
          <p:nvPr/>
        </p:nvPicPr>
        <p:blipFill>
          <a:blip r:embed="rId1"/>
          <a:stretch/>
        </p:blipFill>
        <p:spPr>
          <a:xfrm>
            <a:off x="228600" y="603360"/>
            <a:ext cx="8305920" cy="5645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6292080" y="5254560"/>
            <a:ext cx="284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However, the tilt of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Earth means this ba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is not maintained for 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latitu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333840" y="533520"/>
            <a:ext cx="295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 balance exists betwe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the incoming solar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outgoing longwave energ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veraged over the glob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nd the 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324080" y="52578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76360" y="54928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DEFIC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-46080" y="54864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21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C or 59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cause of greenhouse effect of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contributes to 99.978% of total heat flux into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, C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FCs, 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in heat in the tropics or 40S-40N, loss heat in high latitudes (50S-50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80880" y="91440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What is it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9" descr="Picture1"/>
          <p:cNvPicPr/>
          <p:nvPr/>
        </p:nvPicPr>
        <p:blipFill>
          <a:blip r:embed="rId1"/>
          <a:stretch/>
        </p:blipFill>
        <p:spPr>
          <a:xfrm>
            <a:off x="6553080" y="7621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68580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thin gaseous envelope around the plan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80880" y="20239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Composi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28600" y="2390760"/>
            <a:ext cx="59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oday’s atmosphere: nitrogen  (78%), oxygen (21%), other (1%) – trace gase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8580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Nitrogen, oxygen, argon, water vapor, carbon dioxide, methane, and most other gases are invi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85800" y="36576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louds are not gas, but condensed vapor in the form of  liquid droplets or ice parti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5800" y="43434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Ground based smog, which is visible, contains reactants of                       nitrogen and oz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80880" y="48909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2590920" y="48769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our layer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685800" y="5181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Trop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2133720" y="5181480"/>
            <a:ext cx="16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overturnin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685800" y="54864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trat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133720" y="5486400"/>
            <a:ext cx="167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stratifi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3657600" y="51814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surface to 8-18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3657600" y="54864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troposphere top  to 50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685800" y="57913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es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685800" y="61722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Therm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2971800" y="1676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lue sk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27" descr="box 02-01"/>
          <p:cNvPicPr/>
          <p:nvPr/>
        </p:nvPicPr>
        <p:blipFill>
          <a:blip r:embed="rId2"/>
          <a:stretch/>
        </p:blipFill>
        <p:spPr>
          <a:xfrm>
            <a:off x="7054920" y="3505320"/>
            <a:ext cx="2165400" cy="32763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ested in more questions?  Try these 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ame one or more main causes of glacier and interglacier climate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important greenhouse gases for modern climate change?  What is the fastest growing greenhouse g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climate has been much colder and warmer than that of today.  Do you know in what ways the earth’s radiation balance was alt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The Structure of 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0880" y="914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Four layers defin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44792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71520" y="320040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28600" y="365760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rop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685800" y="17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op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85800" y="2071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t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85800" y="2376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s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858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rm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438280" y="17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438280" y="2057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2514600" y="23907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2514600" y="2681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990720" y="4038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80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990720" y="43434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Earth’s weather happ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990720" y="46483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the measu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228600" y="499752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trat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990720" y="53341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19.9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990720" y="56386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Ozone layer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1371600" y="5943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Blocking Sun’s ultraviolet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6" descr="vertpro"/>
          <p:cNvPicPr/>
          <p:nvPr/>
        </p:nvPicPr>
        <p:blipFill>
          <a:blip r:embed="rId1"/>
          <a:stretch/>
        </p:blipFill>
        <p:spPr>
          <a:xfrm>
            <a:off x="6172200" y="838080"/>
            <a:ext cx="2787480" cy="27878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nergy from the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088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Character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85800" y="1371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vels through space (vacuu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figure 02-01"/>
          <p:cNvPicPr/>
          <p:nvPr/>
        </p:nvPicPr>
        <p:blipFill>
          <a:blip r:embed="rId1"/>
          <a:stretch/>
        </p:blipFill>
        <p:spPr>
          <a:xfrm>
            <a:off x="5013360" y="990720"/>
            <a:ext cx="4054320" cy="4903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1143000" y="1676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a speed o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80880" y="51674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685800" y="2057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the form of wav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5800" y="2757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stream of part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114300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42900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hoto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685800" y="57913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Primary driving force of Earth’s climate 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380880" y="3581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Electromagnetic spectr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685800" y="4038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short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high energy, gamma rays to </a:t>
            </a:r>
            <a:r>
              <a:rPr b="1" lang="en-US" sz="1800" spc="-1" strike="noStrike">
                <a:solidFill>
                  <a:srgbClr val="cc6600"/>
                </a:solidFill>
                <a:latin typeface="Tahoma"/>
              </a:rPr>
              <a:t>long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low energy, radio wav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85800" y="31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leases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ea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hen absorb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685800" y="61722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Ultraviolet, Visible, Infra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un’s 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60280" y="5076720"/>
            <a:ext cx="85615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has peak intensities in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er wavelength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dominant in the region we know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thu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wave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G:\clones\Meterology\custom lectures\jpegs\chapter 02\09.jpg"/>
          <p:cNvPicPr/>
          <p:nvPr/>
        </p:nvPicPr>
        <p:blipFill>
          <a:blip r:embed="rId1"/>
          <a:stretch/>
        </p:blipFill>
        <p:spPr>
          <a:xfrm>
            <a:off x="12600" y="903240"/>
            <a:ext cx="9080640" cy="4000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bod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adiation Curv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9" name="Picture 3" descr="bbcurves"/>
          <p:cNvPicPr/>
          <p:nvPr/>
        </p:nvPicPr>
        <p:blipFill>
          <a:blip r:embed="rId1"/>
          <a:stretch/>
        </p:blipFill>
        <p:spPr>
          <a:xfrm>
            <a:off x="685800" y="8953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4343400" y="1447920"/>
            <a:ext cx="38098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02060"/>
                </a:solidFill>
                <a:latin typeface="Tahoma"/>
              </a:rPr>
              <a:t>Any object above absolute zero radiates heat,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s proportional to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cc66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4572000"/>
            <a:ext cx="2971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Higher temperature, shorter wave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Longwave &amp; Shortwave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3" descr="G:\clones\Meterology\custom lectures\jpegs\chapter 02\08.jpg"/>
          <p:cNvPicPr/>
          <p:nvPr/>
        </p:nvPicPr>
        <p:blipFill>
          <a:blip r:embed="rId1"/>
          <a:stretch/>
        </p:blipFill>
        <p:spPr>
          <a:xfrm>
            <a:off x="12600" y="682560"/>
            <a:ext cx="6756480" cy="5254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6794640" y="873000"/>
            <a:ext cx="23238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t sun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radiates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rter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wavelengths that car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energ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and the fraction absorbed by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oler earth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then re-radiated 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nger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waveleng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Greenhous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3" descr="G:\clones\Meterology\custom lectures\jpegs\chapter 02\12A.jpg"/>
          <p:cNvPicPr/>
          <p:nvPr/>
        </p:nvPicPr>
        <p:blipFill>
          <a:blip r:embed="rId1"/>
          <a:stretch/>
        </p:blipFill>
        <p:spPr>
          <a:xfrm>
            <a:off x="4603680" y="685800"/>
            <a:ext cx="4540320" cy="4129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G:\clones\Meterology\custom lectures\jpegs\chapter 02\12B.jpg"/>
          <p:cNvPicPr/>
          <p:nvPr/>
        </p:nvPicPr>
        <p:blipFill>
          <a:blip r:embed="rId2"/>
          <a:stretch/>
        </p:blipFill>
        <p:spPr>
          <a:xfrm>
            <a:off x="31680" y="674640"/>
            <a:ext cx="4540320" cy="3363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1676520" y="34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15°C (59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0958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–18°C (0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0" y="5410080"/>
            <a:ext cx="9080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eenhouse effects make Earth’s surface warm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28600" y="380988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4800600" y="464832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GHeffect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2:03Z</dcterms:created>
  <dc:creator>Zong-Liang Yang</dc:creator>
  <dc:description/>
  <dc:language>en-US</dc:language>
  <cp:lastModifiedBy>Legion</cp:lastModifiedBy>
  <dcterms:modified xsi:type="dcterms:W3CDTF">2017-01-26T10:04:30Z</dcterms:modified>
  <cp:revision>237</cp:revision>
  <dc:subject/>
  <dc:title>Elements of the Sun; Solar Radiation</dc:title>
</cp:coreProperties>
</file>